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explode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EE8-945A-433C-9150-1938BF31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D08-E0CA-44D4-8ECB-4DF1C4C2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B5175B-29A5-4090-894A-76F55E52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5CBD8E-70DE-40DF-843C-F9D02E07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FE97D-5B8E-446C-9096-0B6B6E19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45F47E-C2A6-4E4E-BF9D-7D47BF71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748DF-B4B0-409F-B155-A8FD1BD0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B46C6C-E85B-4868-9952-A14C2A1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BC25C-C51F-4682-9D8F-47C45D53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4A4F94-CEBC-4B50-888D-E9F6B87D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327023-0F7D-4B00-81B1-5CE37973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0F6-7DAA-4FF6-AFA0-96826B17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CF2-82EB-464E-993C-A030FA1E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5C53D-6074-4633-9086-559B4673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9CF9C-EEAE-410D-B2AD-AF85ECF1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14E2B-36D4-4876-82FE-AED47E48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15248-8AB7-4C06-B700-55A9B161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B0AFF-06F5-46AC-A447-CFF5A907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8CA4D-2C83-4F15-8D13-88F7C007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239C5-87E9-4B6D-A55E-1A0FBB6D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7AD-D121-4581-A83E-3CB7CEB0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B6926-8D8F-4280-B0E7-6BBF6828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CD08B-77CA-4BF5-BB0D-D01B636D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45D9F-03E9-4CA9-B172-EA863942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BF12C-90CC-4FA7-97A6-D77B8474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2234A-1FC4-4642-91B1-1E1B4D0D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9E0F-0125-458C-AD5E-F9E152A3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4CDD-093B-4CAC-8D50-5893000C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A123-1964-457B-BCF7-6FC8B31E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BB9C-A285-4629-990D-D25969FF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9CEB-8E25-4288-9628-C69D04B8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255-6957-4807-9A84-91D65E02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C1AD-D32C-4C0B-B016-56EB4D51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4DC6-181A-45A0-BA3A-D11620F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53BC-E190-4ADF-A3C9-71123743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BB2D-4602-44AB-B313-6C763B6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6C63-D54B-4204-8E75-3D83058C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866B-7283-4E36-A3F8-5D8B8794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38F1-08A4-4A3D-9E8F-A9D20427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76D3E-4569-490A-85DF-5DC546C6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74A1F-A5BF-4A6C-AAAE-32BA1B6E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1FF27-1097-480E-BE10-4491FFB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29A-A587-4C8E-A4A9-E0198BA8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945C6-BEF7-42BE-98BA-D34693CA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11B53-BB15-47AA-AB18-24E11951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7F82A-D8E4-4078-8393-9525DCA5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90CC0-E45E-442B-AA47-52EC7503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F98C7-2B63-48BB-9AE3-413117D6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F7BEF-0CBB-4360-BD50-365CE2DD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FCE73-A4A6-430A-A509-27F163BA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11513-2F60-4B11-9CE3-6F2332ED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DC99D-1234-419E-9817-B163C61A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E3CB6-E0E7-43B1-975E-A4BBCFF2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458-FA1C-4056-95B7-C222DAF5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EDEE0-F668-42E5-9931-BF93A9B5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BCBBC-A01D-43F2-8BE6-DBAD0B94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AAE55-3EF5-4156-B202-BC7659EA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5C84-BDF1-4F56-80D2-9491993E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20320-6737-4D46-9518-FB521BAE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94634-E868-4D70-A2B3-5B043938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A54D9-59C7-4C7B-A81D-779CFA94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80621-C660-4554-BD19-0A16941A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2C48B-C56A-4BE8-95AB-A47DFAF0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E1E58-5597-4257-A595-F1EB6E26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769-A0CA-4C83-989B-49023BFC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0A92D-5ED0-45CB-83E4-C94A1046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7600A-848E-4109-A86D-23CB6FDC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D722-3D0A-4912-AA13-7513250B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6C356-501E-4EAB-91E6-85504634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5056A-050A-4932-A84B-9E523186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37DD0-A53D-4017-B3BF-B8E46B0D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15903-C492-4DD3-BD4C-B259417B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6DAA6-073F-427F-9B52-9AFB4DFE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17A24-B206-4E4A-AEFA-FA84D589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88F8-18C1-4DB6-BECF-56D51DD3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181-ACDD-4597-98CC-9C1E4154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44F8-4F5B-4C50-B391-409F9E10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4C47A-0231-4654-BB6C-320AABA3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EFD38-839C-414D-9933-144B7BDA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A6FCB-44BF-42F4-97A7-50D0FC30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05139-649D-440D-8851-60194485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4023-8295-458F-913C-3925F9FB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2B127-C136-4DF2-A64B-A2CD13A6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1F20-F8FF-429E-8C69-2EBAF08A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D1957-42C4-4F16-A5FF-904952C1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C5952-4BF3-44C4-B2E4-32CC96E5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F46-10F2-45B2-ACFF-1A4A1CDA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EFA43-44ED-42E9-8BB8-851CCA2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47DBF-8165-475F-9073-5760A007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C4FCA-687D-486F-B783-7F2A5FC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545AA-04CB-4BA4-9A42-B0194061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75F7B-EDAC-4BF1-A3EF-019478A4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8E4D0-F390-4C91-B6CE-DDE5F18A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29732-202A-4D1B-8622-BB4CF9BC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41F74-0030-46BE-BB8A-00120138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F2991D-2503-4779-808F-EEEB3381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FD4EB7-43C5-4785-8845-746452F1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D69-5654-4288-A34C-179B1846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078C5C-8476-4E06-8A24-6EAC094B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85D37-C3AD-46E1-B579-33AE2F9A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8CB48F-30EC-4E0C-B04C-D69A3583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99DBC-867C-4BE8-9188-E235EBDC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D35977-39F4-4F84-AA0A-AF2AB35C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CF8906-6075-4D88-8B00-8FA957E1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BFFC6-9F4B-40FB-AF67-C5031622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6DECE2-530E-4A14-B958-7829658B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E7ACC1-76F0-4EE9-AA75-6A0B0936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A6F8E2-4B02-4026-9142-128F529F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6497-6AE0-4ACD-A15D-3A8227FDDDF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A79B-3593-41D6-960B-CEE517DEF7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ECF5-B09E-4D27-BB84-23B38AF1835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7EB6-1CBD-48CF-B18F-710C7B3E703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C14A-4E8A-4432-B7EB-79621CA46CE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891D-1BCB-46ED-A7E0-2FA9B02E1CB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7433-3775-4CF8-A64C-1E15BB532E8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2968-DEFF-4DD7-BC8F-AC32B0E00F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30E8-06DE-49E6-8F86-94C83100FC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64400" cy="2225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John Perritan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esentation by Zach Hafn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cover dir="d"/>
    <p:sndAc>
      <p:stSnd>
        <p:snd r:embed="rId2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genre of this book is a non-fiction book about the 10 most famous battl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cover dir="d"/>
    <p:sndAc>
      <p:stSnd>
        <p:snd r:embed="rId2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book tells about the ten most famous battles of world war2. It tells about the battle of Stalingrad and the battle of Kursk [ It still is the battle with the most tanks in history]. This book tells who was in charge of the force attacking and weapons of war that were outstanding in the wa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cover dir="d"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pic>
        <p:nvPicPr>
          <p:cNvPr id="401" name="Content Placeholder 3" descr="tiger at kursk.jpg"/>
          <p:cNvPicPr/>
          <p:nvPr/>
        </p:nvPicPr>
        <p:blipFill>
          <a:blip r:embed="rId2"/>
          <a:stretch/>
        </p:blipFill>
        <p:spPr>
          <a:xfrm>
            <a:off x="450720" y="1444680"/>
            <a:ext cx="3310200" cy="2573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book of 10 greatest battles.jpg"/>
          <p:cNvPicPr/>
          <p:nvPr/>
        </p:nvPicPr>
        <p:blipFill>
          <a:blip r:embed="rId3"/>
          <a:stretch/>
        </p:blipFill>
        <p:spPr>
          <a:xfrm>
            <a:off x="6477120" y="1905120"/>
            <a:ext cx="2286000" cy="3271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light anti aircraft colum.jpg"/>
          <p:cNvPicPr/>
          <p:nvPr/>
        </p:nvPicPr>
        <p:blipFill>
          <a:blip r:embed="rId4"/>
          <a:stretch/>
        </p:blipFill>
        <p:spPr>
          <a:xfrm>
            <a:off x="3048120" y="4038480"/>
            <a:ext cx="3268440" cy="266724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5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 recommend this book to Josh M. Because he is in young marines and would need this information because they had marines tactics. in some of these battles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cover dir="d"/>
    <p:sndAc>
      <p:stSnd>
        <p:snd r:embed="rId2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 can use this knowledge that if I need to lead a country through war that I could use some of these tactics to wi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 learned that and Germany attacked Britain and would’ve succeeded if Britain had not bombed Berli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cover dir="d"/>
    <p:sndAc>
      <p:stSnd>
        <p:snd r:embed="rId2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20:51:45Z</dcterms:created>
  <dc:creator>Owner</dc:creator>
  <dc:description/>
  <dc:language>en-US</dc:language>
  <cp:lastModifiedBy>Owner</cp:lastModifiedBy>
  <dcterms:modified xsi:type="dcterms:W3CDTF">2012-05-07T21:16:01Z</dcterms:modified>
  <cp:revision>4</cp:revision>
  <dc:subject/>
  <dc:title>World WAR2  TEN GREATEST BATTLES</dc:title>
</cp:coreProperties>
</file>